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34.png" ContentType="image/png"/>
  <Override PartName="/ppt/media/image10.jpeg" ContentType="image/jpeg"/>
  <Override PartName="/ppt/media/image27.jpeg" ContentType="image/jpeg"/>
  <Override PartName="/ppt/media/image52.png" ContentType="image/png"/>
  <Override PartName="/ppt/media/image32.jpeg" ContentType="image/jpeg"/>
  <Override PartName="/ppt/media/image67.png" ContentType="image/png"/>
  <Override PartName="/ppt/media/image60.jpeg" ContentType="image/jpeg"/>
  <Override PartName="/ppt/media/image29.png" ContentType="image/png"/>
  <Override PartName="/ppt/media/image31.png" ContentType="image/png"/>
  <Override PartName="/ppt/media/image66.png" ContentType="image/png"/>
  <Override PartName="/ppt/media/image26.png" ContentType="image/png"/>
  <Override PartName="/ppt/media/image63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4.png" ContentType="image/png"/>
  <Override PartName="/ppt/media/image16.png" ContentType="image/png"/>
  <Override PartName="/ppt/media/image3.png" ContentType="image/png"/>
  <Override PartName="/ppt/media/image15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64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3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E16-5EE2-46EB-BE56-2A7B96E7903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Quelle: GfK Pane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98EF-28D6-46C6-8B47-2C82669F221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ABB9-6AD7-436A-B935-B7484AFDE2C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uelle:AfD-Studie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84C-2842-477E-99E3-DC4F6BD884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101-70D1-4244-8B75-65CDFC5AE8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442-60DB-4BC2-8CEA-5012406D46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A08-B9BD-4563-8BD8-AABD12B796E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90A-720B-4F85-AEC1-3429F297DF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767D-6291-42A1-8AF1-34B11FBA9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8603-A87E-419D-94EA-AC189A38EA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0170D-1D8E-431A-A920-52B592A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F37A-7A39-461D-8F80-62F03934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D6E72-8BD3-4809-9D97-D3AACEF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335D-EDC2-453D-8B9E-B616612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44574-A773-4A13-BA3F-A3CCBDDD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47E63-7E93-47D4-B558-D4E9E58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1748-5EFB-44A1-AB39-7F278D2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26815-2BF6-49A7-82D6-3B445E0C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533C8-83D2-4FF7-BFA5-0F04CD4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F6D78-8D52-4C7F-9144-CD6A64AC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CDC0-E807-414E-AEB2-9AD037D7182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4435D-48F1-4383-8C4F-AC842AC7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D535-ADDC-4AEB-854E-ADFECC8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32C85-BE91-4394-BB67-98D09806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5B395-1326-48B8-8EA9-7D5FF269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CF85D-81C6-4C02-BD1E-8832FD2B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7D196-F7B2-4132-B529-E824806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12B7B-A08B-49FB-A2D8-808E2D3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3166-D6D0-46FC-A045-8FE73C8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C98F2-02DE-4D05-95A9-73CC14F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FF474-C9CC-41C1-AB6A-00EF212B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8854-DEEB-44D5-873E-C0284F117A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7E287-D12D-4429-90AA-ABC4CC9F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B8B22-7D63-4894-AC68-8EB76AE3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60279-C2EE-436E-82B5-1CEBC01D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C12D2-8616-45D2-ACAE-B5C07512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8DC44-F307-4CAA-9D2D-EC81B6D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0454C-D3DC-43E7-93A4-79063629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86EC9-DD48-4F1D-9D73-604EEA9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AFB7C-35A0-4D20-9580-C43B88A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96741-455B-40D7-BE98-DED3E66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A26A9-BF53-42D4-A8E2-8B55B43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33502-B294-4681-8B27-35366273633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E555D-BBC0-4C6A-97CC-3C01C3C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BEF98-F995-4221-98AA-3F2C4B0E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CF2C0-3F03-4C40-80C2-AEBD57D7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1E6D8-61AD-44EC-AD71-1E8E9F1C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561C6-6BC0-4F48-A1FC-7E0D711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DE87-8DA4-498F-9E96-E95FEFE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6CB2A-6190-4CC0-808D-86CE95C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4F367-CAC3-4983-BE80-4F1D0127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129C2-BBCB-4F76-B8A5-8389334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AFC87-FB49-4F0D-B7F1-2B916B9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FE525-89AC-4834-81B2-BC9B5FCC67F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F55D3-5108-444E-8DE2-92B560B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1CA74-7743-4A02-B655-E1949FF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13FD9-DE29-49D5-9D11-A2B91478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C577-58EF-4361-B5BB-7B8BF8E4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5AC3B-63EE-4D03-921E-59AA4BA2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4DE9E-9ED5-4F35-BD59-6312B1B929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9B37-E7B2-4EA3-AAFB-0F9463DD3B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F3E5-ECCD-46ED-AF27-7099E7FE85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66E04-C8BC-450F-B73B-EEA4E9BC7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377D-4567-4915-A9C2-06FF08B21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EBBE-67B2-4800-830E-28AB84CAB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EEC57-C31C-4EF5-A14A-3AF5D99BA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D3C73-073F-4CAE-9B8F-16DDEB6360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48C9-6D57-4B21-875E-E108B09E2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5501B-19B9-44DB-B364-AF258E64A1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E79CF-C61D-4E6C-A5E3-9F809AF0E3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D941-0435-41C8-851D-6B28312F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2C5-728E-4562-A5C6-F03E767D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229-6930-4E60-9DC3-E4F54A1A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2959-1642-42A8-9358-8AA637C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FE24-F8AC-4717-ACD8-2ED088A7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8829-837D-4A20-A5E9-A05EC13A77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935-4590-4E9F-9570-0C2609FD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77C-8D3D-4BB2-B3C9-D0356D6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AEA-93A0-4D4A-8C03-548CD12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9FC4-C3A1-4A44-B486-C9B72B3F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A32-D5E7-4338-B4AA-CE525CC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6072-0B8B-4841-B4D8-CFE10938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38C-E79C-4006-BF95-D35AE1B4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81EA-18BC-4015-9679-E65DBCCC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10F5-61EB-4568-A43F-0922B628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ACEB-2D1D-4C02-B0E8-162C754C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1DB6-8EA4-4547-B1D2-E509174E5E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B259-BAB8-422F-B462-7821595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0E02-F718-48E4-BD29-45C88F2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64B8-1768-4CEE-A1BB-DBE046DD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DA99-7DB5-4F2B-A5E4-6698BCA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63C0-346F-4C80-ABD1-29C050A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A803-1CAE-4618-BC8E-3CCF18E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07F3-7C0C-4F62-BE07-F02EE25A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0F29-9F0F-4060-90EB-BBA129C8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28AC-35C1-4F68-BF20-9E9A1CE3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90B3-0A13-4541-A2B0-43FF2D49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62A2-0C63-465E-8079-A784958B51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F204-C1BE-4C36-8502-2E16040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F7B4-E9CE-43A6-9F40-81AA4A21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900A-3F6A-4B89-8071-A9465EF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6C54-235A-41AF-8940-E1F055C0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4268-866B-4FF8-851B-4C991906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D1AE-7340-49EA-9AE8-171D63C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ECF7-432A-49AE-9DA5-DAF65C4E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8234-F057-4D5A-B177-79FC0EE0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F4C6-FAFC-43FC-974B-E7338C33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2977-0021-41F7-87ED-ACA314E9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E40D-8C68-4A6E-B733-13BEA6CEC5C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18E8-63CF-4E67-BB2C-EDCD2610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365D-C1E3-400F-BAC2-158CCFDC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843F-CE1B-49BE-8B15-F6EEF331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51F6-5F2C-4526-82ED-48E7321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6959-0093-489A-B8F6-B01BCC6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3FB7-0649-4420-9DD0-5C976579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86AB-D9E0-4E2B-8D4D-7B05A627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2BBA-3646-4976-83F3-02148F24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02FC-E8C5-4CE8-B9C8-4A837726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DAC4F-96A6-4B85-BE84-8C2995D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A8E7-E5E9-4B94-98BB-179154625B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BA7BC-E563-4C75-B59B-D18A464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6D37-D061-4CB3-AAED-68387B96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778D-4457-4F98-9108-2043CD21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B35C-99DC-400E-A1C6-5533C5A5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4003-3B5A-4117-B7BC-A3756B4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A0EF-713E-46CF-B0D3-9DB2A462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8A9B-991D-401E-B9CA-582B7BE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1B11-5942-4DE8-9C90-B68B1CE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5DAA0-8BD5-47B8-93B9-5C4032DC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2820-2ED3-4045-A29C-8DFE405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12D7-49A3-433E-AB07-1BB52C86BD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BFE1-3867-4398-B8E7-6B7E0BB6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02E0-BABF-4CAC-A1DF-BC1D707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8D35-952A-434D-9168-DDA177D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D768B-77A5-4424-8217-46241EB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6921-DE78-43DF-A58D-B14058C5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C548-4856-4305-9B29-E758C153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2D29-AF8A-45A7-90AF-2210C232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5B07-4176-40B7-A53F-ACF74F71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26D0-AABB-4AD8-85FD-8AC2908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0601-71FC-4D13-867F-47608E76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A3C7-4658-424A-85B5-99B370C6D36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2CA8B-366B-4652-8864-C4C6755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EA6A-F1C1-467F-8126-1E96C67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C67C-ED8D-445C-B817-77EEDCE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2A16-0857-4700-AB3B-FD08190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F2784-B59C-4A2A-B703-3F56A02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331D-E3EB-4AA2-AE13-592172B4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42CE-58C8-4E7D-9AB0-5406D5B7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8767-B765-450B-B234-15F62CAD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E982-8BDD-494B-A485-A9FCC68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ABD0D-A7B2-442B-8103-F849BCB2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428400" y="6356520"/>
            <a:ext cx="7143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257-09B4-4924-9918-7878004184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7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9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10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13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16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54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54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54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55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55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5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955A-4A94-422D-B408-09B305896FA8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ldNum" idx="27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45DA-448F-417F-AB5B-BC2BE27BB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8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60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60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60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61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61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CE3-E682-4BB9-AF0C-0AE12A0A408C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Num" idx="30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5B80-86A8-470D-A84E-F82CFFDAE1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1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66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66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66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67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67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9604-A8D3-4365-8922-FF93153B27C1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ldNum" idx="33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9AB1-D559-4AE0-B6DB-BD77E1908F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4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64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66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67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70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73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5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7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Gerade Verbindung 23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ftr" idx="3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4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DCD-8636-4B1D-BE19-FE139B226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12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12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12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13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13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F9EE-CE77-4017-A0A4-0C5663ADE698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Num" idx="6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533-4FE6-4BB0-ADF1-A34FDF764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7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18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18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18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19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19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CD05-FBB1-45BF-91F2-9ABAD439DED4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9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A628-6E82-4925-919E-A5E8FA1B6A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0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24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24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24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25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25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56C-B450-445F-8388-FDF65B046BB1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2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8F7F-0F6E-4129-B057-0026FA52D0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3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30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30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30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31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31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2D1-A79B-4047-AE09-689570DE9DE2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Num" idx="15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934-A573-4A0F-AA64-F7570C582D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6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36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36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36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37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37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19DB-9BFB-48AA-B6EA-695114FBA331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Num" idx="18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8C9-0B9B-4EFD-97BA-692ED7C895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9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42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42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42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43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43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834-1EFA-4C95-8AF6-13E1BABF0251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Num" idx="21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947-F4A0-47F2-8D4B-7BBFFAEAB5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2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1"/>
          <p:cNvSpPr/>
          <p:nvPr/>
        </p:nvSpPr>
        <p:spPr>
          <a:xfrm>
            <a:off x="0" y="6786720"/>
            <a:ext cx="9144000" cy="71280"/>
          </a:xfrm>
          <a:prstGeom prst="rect">
            <a:avLst/>
          </a:prstGeom>
          <a:solidFill>
            <a:srgbClr val="bd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1"/>
          <p:cNvSpPr/>
          <p:nvPr/>
        </p:nvSpPr>
        <p:spPr>
          <a:xfrm>
            <a:off x="5041800" y="0"/>
            <a:ext cx="4102200" cy="501480"/>
          </a:xfrm>
          <a:prstGeom prst="rect">
            <a:avLst/>
          </a:prstGeom>
          <a:solidFill>
            <a:srgbClr val="bdc9e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0" y="1981080"/>
            <a:ext cx="76320" cy="487692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7d9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uppieren 11"/>
          <p:cNvGrpSpPr/>
          <p:nvPr/>
        </p:nvGrpSpPr>
        <p:grpSpPr>
          <a:xfrm>
            <a:off x="6472080" y="142920"/>
            <a:ext cx="2262240" cy="1143000"/>
            <a:chOff x="6472080" y="142920"/>
            <a:chExt cx="2262240" cy="1143000"/>
          </a:xfrm>
        </p:grpSpPr>
        <p:pic>
          <p:nvPicPr>
            <p:cNvPr id="486" name="Textfeld 12" descr=""/>
            <p:cNvPicPr/>
            <p:nvPr/>
          </p:nvPicPr>
          <p:blipFill>
            <a:blip r:embed="rId2"/>
            <a:stretch/>
          </p:blipFill>
          <p:spPr>
            <a:xfrm>
              <a:off x="7462800" y="142920"/>
              <a:ext cx="12715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uppieren 15"/>
            <p:cNvGrpSpPr/>
            <p:nvPr/>
          </p:nvGrpSpPr>
          <p:grpSpPr>
            <a:xfrm>
              <a:off x="6472080" y="227520"/>
              <a:ext cx="1923120" cy="1030320"/>
              <a:chOff x="6472080" y="227520"/>
              <a:chExt cx="1923120" cy="1030320"/>
            </a:xfrm>
          </p:grpSpPr>
          <p:grpSp>
            <p:nvGrpSpPr>
              <p:cNvPr id="488" name="Rectangle 19"/>
              <p:cNvGrpSpPr/>
              <p:nvPr/>
            </p:nvGrpSpPr>
            <p:grpSpPr>
              <a:xfrm>
                <a:off x="6736680" y="259560"/>
                <a:ext cx="595440" cy="998280"/>
                <a:chOff x="6736680" y="259560"/>
                <a:chExt cx="595440" cy="998280"/>
              </a:xfrm>
            </p:grpSpPr>
            <p:pic>
              <p:nvPicPr>
                <p:cNvPr id="489" name="Rectangl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366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0" name=""/>
                <p:cNvSpPr/>
                <p:nvPr/>
              </p:nvSpPr>
              <p:spPr>
                <a:xfrm>
                  <a:off x="6796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Rectangle 20"/>
              <p:cNvGrpSpPr/>
              <p:nvPr/>
            </p:nvGrpSpPr>
            <p:grpSpPr>
              <a:xfrm>
                <a:off x="7265880" y="259560"/>
                <a:ext cx="595440" cy="998280"/>
                <a:chOff x="7265880" y="259560"/>
                <a:chExt cx="595440" cy="998280"/>
              </a:xfrm>
            </p:grpSpPr>
            <p:pic>
              <p:nvPicPr>
                <p:cNvPr id="492" name="Rectangl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65880" y="259560"/>
                  <a:ext cx="59544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"/>
                <p:cNvSpPr/>
                <p:nvPr/>
              </p:nvSpPr>
              <p:spPr>
                <a:xfrm>
                  <a:off x="732744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Rectangle 21"/>
              <p:cNvGrpSpPr/>
              <p:nvPr/>
            </p:nvGrpSpPr>
            <p:grpSpPr>
              <a:xfrm>
                <a:off x="7795440" y="259560"/>
                <a:ext cx="599760" cy="998280"/>
                <a:chOff x="7795440" y="259560"/>
                <a:chExt cx="599760" cy="998280"/>
              </a:xfrm>
            </p:grpSpPr>
            <p:pic>
              <p:nvPicPr>
                <p:cNvPr id="495" name="Rectangl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5440" y="259560"/>
                  <a:ext cx="59976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6" name=""/>
                <p:cNvSpPr/>
                <p:nvPr/>
              </p:nvSpPr>
              <p:spPr>
                <a:xfrm>
                  <a:off x="7858080" y="298080"/>
                  <a:ext cx="477720" cy="8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7" name="Textfeld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227520"/>
                <a:ext cx="1129320" cy="95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Textfeld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7010280" y="227520"/>
                <a:ext cx="108936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9" name="Gerade Verbindung 22"/>
          <p:cNvSpPr/>
          <p:nvPr/>
        </p:nvSpPr>
        <p:spPr>
          <a:xfrm flipH="1" flipV="1">
            <a:off x="2142720" y="1643040"/>
            <a:ext cx="69296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hteck 20"/>
          <p:cNvSpPr/>
          <p:nvPr/>
        </p:nvSpPr>
        <p:spPr>
          <a:xfrm>
            <a:off x="6535080" y="1357200"/>
            <a:ext cx="20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liennummernplatzhalter 5"/>
          <p:cNvSpPr/>
          <p:nvPr/>
        </p:nvSpPr>
        <p:spPr>
          <a:xfrm>
            <a:off x="-71280" y="649296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02.0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B987-C614-4FB0-AF06-00F4F938A346}" type="datetime">
              <a:rPr b="0" lang="de-DE" sz="24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Num" idx="24"/>
          </p:nvPr>
        </p:nvSpPr>
        <p:spPr>
          <a:xfrm>
            <a:off x="835776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EE7A-A5F3-4191-902F-059756C5A0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5"/>
          </p:nvPr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8 DigiRights Solution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6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6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6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0.jpeg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82" descr="C:\Dokumente und Einstellungen\Admin\Desktop\Präsentation\grafik-auge-auflage_~V3047005.jpg"/>
          <p:cNvPicPr/>
          <p:nvPr/>
        </p:nvPicPr>
        <p:blipFill>
          <a:blip r:embed="rId1"/>
          <a:stretch/>
        </p:blipFill>
        <p:spPr>
          <a:xfrm>
            <a:off x="1762200" y="1835280"/>
            <a:ext cx="6040440" cy="5260680"/>
          </a:xfrm>
          <a:prstGeom prst="rect">
            <a:avLst/>
          </a:prstGeom>
          <a:ln w="0">
            <a:noFill/>
          </a:ln>
        </p:spPr>
      </p:pic>
      <p:sp>
        <p:nvSpPr>
          <p:cNvPr id="729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Textfeld 8" descr=""/>
          <p:cNvPicPr/>
          <p:nvPr/>
        </p:nvPicPr>
        <p:blipFill>
          <a:blip r:embed="rId2"/>
          <a:stretch/>
        </p:blipFill>
        <p:spPr>
          <a:xfrm>
            <a:off x="237960" y="12600"/>
            <a:ext cx="8892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D58-F524-4EEC-BADB-46851664E1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Diagramm 11" descr=""/>
          <p:cNvPicPr/>
          <p:nvPr/>
        </p:nvPicPr>
        <p:blipFill>
          <a:blip r:embed="rId1"/>
          <a:stretch/>
        </p:blipFill>
        <p:spPr>
          <a:xfrm>
            <a:off x="2071800" y="2286000"/>
            <a:ext cx="6500880" cy="3714840"/>
          </a:xfrm>
          <a:prstGeom prst="rect">
            <a:avLst/>
          </a:prstGeom>
          <a:ln w="0">
            <a:noFill/>
          </a:ln>
        </p:spPr>
      </p:pic>
      <p:sp>
        <p:nvSpPr>
          <p:cNvPr id="776" name="Textfeld 15"/>
          <p:cNvSpPr/>
          <p:nvPr/>
        </p:nvSpPr>
        <p:spPr>
          <a:xfrm>
            <a:off x="1643040" y="192888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Illegale Musikdownloads in Deutsch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feld 10"/>
          <p:cNvSpPr/>
          <p:nvPr/>
        </p:nvSpPr>
        <p:spPr>
          <a:xfrm>
            <a:off x="1643040" y="57862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98989"/>
                </a:solidFill>
                <a:latin typeface="Calibri"/>
              </a:rPr>
              <a:t>In Mio. Stü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hteck 18"/>
          <p:cNvSpPr/>
          <p:nvPr/>
        </p:nvSpPr>
        <p:spPr>
          <a:xfrm>
            <a:off x="7215120" y="2968560"/>
            <a:ext cx="1500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2007 wurden in Deutschland über 300 Millionen Songs illegal aus dem Internet heruntergeladen. Auf einen legalen kommen damit rund zehn illegal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C:\Dokumente und Einstellungen\Admin\Desktop\statistik_ratgeber.gif"/>
          <p:cNvPicPr/>
          <p:nvPr/>
        </p:nvPicPr>
        <p:blipFill>
          <a:blip r:embed="rId3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81" name="Textfeld 1"/>
          <p:cNvSpPr/>
          <p:nvPr/>
        </p:nvSpPr>
        <p:spPr>
          <a:xfrm>
            <a:off x="6858000" y="6000840"/>
            <a:ext cx="17146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Calibri"/>
              </a:rPr>
              <a:t>Quelle: GfK Pane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feld 10"/>
          <p:cNvSpPr/>
          <p:nvPr/>
        </p:nvSpPr>
        <p:spPr>
          <a:xfrm>
            <a:off x="2214720" y="2286000"/>
            <a:ext cx="6572160" cy="283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00 % der Top 100 Titel sind wenige Stunden nach Veröffentlichung in den verschiedenen Tauschbörsen erhäl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große Anzahl von Titeln wird bereits vor VÖ angeb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Analyse der illegalen Musikkopien im Internet hat ergeben, dass jeder Top 100 Titel in CD-Qualität angeboten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sik, die illegal über Tauschbörsen verbreitet wird, verursacht weltweit einen Schaden von rund 69 Mrd. Dollar. Zu diesem Ergebnis kommt die aktuelle Studie aus dem Jah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"P2P: Content's Bad Boy; Tomorrow's Distribution Channel" des Marktforschungsunternehmens MultiMedia Intelligenc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FF1-F35E-4CFF-8099-A0189B72E7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Rectangle 7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C:\Dokumente und Einstellungen\Admin\Desktop\statistik_ratgeber.gif"/>
          <p:cNvPicPr/>
          <p:nvPr/>
        </p:nvPicPr>
        <p:blipFill>
          <a:blip r:embed="rId2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87" name="Textfeld 1"/>
          <p:cNvSpPr/>
          <p:nvPr/>
        </p:nvSpPr>
        <p:spPr>
          <a:xfrm>
            <a:off x="1928880" y="5572080"/>
            <a:ext cx="1714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Calibri"/>
              </a:rPr>
              <a:t>Quelle: DRS GmbH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feld 10"/>
          <p:cNvSpPr/>
          <p:nvPr/>
        </p:nvSpPr>
        <p:spPr>
          <a:xfrm>
            <a:off x="2214720" y="2286000"/>
            <a:ext cx="6572160" cy="283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52 % aller weltweit gestarteten Kinofilme sind als Raubkopie im Internet verfügbar. Im Durchschnitt tauchen die illegalen Kopien 1,9 Tage nach Kinostart im Netzt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 Jahr 2007 waren rund 16 Prozent der neu gestarteten Filme bereits vor Kinostart online verfügbar. Etwa 23 Prozent erschienen am Eröffnungswochenende und rund 14 Prozent waren nach Kinostart erhäl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Analyse der Qualität der illegalen Filmkopien im Internet hat ergeben, dass über 60 Prozent der ersten Releases eine gute Bild- und über 20 Prozent eine gute Tonqualität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91C-8B64-47F5-83E8-86C1884ACD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C:\Dokumente und Einstellungen\Admin\Desktop\statistik_ratgeber.gif"/>
          <p:cNvPicPr/>
          <p:nvPr/>
        </p:nvPicPr>
        <p:blipFill>
          <a:blip r:embed="rId1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792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93" name="Textfeld 1"/>
          <p:cNvSpPr/>
          <p:nvPr/>
        </p:nvSpPr>
        <p:spPr>
          <a:xfrm>
            <a:off x="1928880" y="5500800"/>
            <a:ext cx="1714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Calibri"/>
              </a:rPr>
              <a:t>Quelle: AfD-Studie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liennummernplatzhalter 11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2C4C-4F20-4836-BB91-DA7B9D2118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C:\Dokumente und Einstellungen\Admin\Desktop\Präsentation\lupe.jpg"/>
          <p:cNvPicPr/>
          <p:nvPr/>
        </p:nvPicPr>
        <p:blipFill>
          <a:blip r:embed="rId1"/>
          <a:stretch/>
        </p:blipFill>
        <p:spPr>
          <a:xfrm>
            <a:off x="642960" y="2357280"/>
            <a:ext cx="857160" cy="2857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" descr="C:\Dokumente und Einstellungen\Admin\Desktop\300px-Limewire_logo_svg.png"/>
          <p:cNvPicPr/>
          <p:nvPr/>
        </p:nvPicPr>
        <p:blipFill>
          <a:blip r:embed="rId2"/>
          <a:stretch/>
        </p:blipFill>
        <p:spPr>
          <a:xfrm>
            <a:off x="4143240" y="3000240"/>
            <a:ext cx="1773360" cy="17733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" descr="C:\Dokumente und Einstellungen\Admin\Desktop\NeuesBitTorrentLogo.png"/>
          <p:cNvPicPr/>
          <p:nvPr/>
        </p:nvPicPr>
        <p:blipFill>
          <a:blip r:embed="rId3"/>
          <a:stretch/>
        </p:blipFill>
        <p:spPr>
          <a:xfrm>
            <a:off x="6572160" y="3357720"/>
            <a:ext cx="1800360" cy="409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C:\Dokumente und Einstellungen\Admin\Desktop\emule2-243x300.jpg"/>
          <p:cNvPicPr/>
          <p:nvPr/>
        </p:nvPicPr>
        <p:blipFill>
          <a:blip r:embed="rId4"/>
          <a:stretch/>
        </p:blipFill>
        <p:spPr>
          <a:xfrm>
            <a:off x="1928880" y="3071880"/>
            <a:ext cx="1474560" cy="1820880"/>
          </a:xfrm>
          <a:prstGeom prst="rect">
            <a:avLst/>
          </a:prstGeom>
          <a:ln w="0">
            <a:noFill/>
          </a:ln>
        </p:spPr>
      </p:pic>
      <p:sp>
        <p:nvSpPr>
          <p:cNvPr id="800" name="Rechteck 22"/>
          <p:cNvSpPr/>
          <p:nvPr/>
        </p:nvSpPr>
        <p:spPr>
          <a:xfrm>
            <a:off x="3786120" y="250992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limewire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23"/>
          <p:cNvSpPr/>
          <p:nvPr/>
        </p:nvSpPr>
        <p:spPr>
          <a:xfrm>
            <a:off x="1862280" y="2509920"/>
            <a:ext cx="17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emule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hteck 24"/>
          <p:cNvSpPr/>
          <p:nvPr/>
        </p:nvSpPr>
        <p:spPr>
          <a:xfrm>
            <a:off x="6504840" y="250992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ittorren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feld 26"/>
          <p:cNvSpPr/>
          <p:nvPr/>
        </p:nvSpPr>
        <p:spPr>
          <a:xfrm>
            <a:off x="6500880" y="4960440"/>
            <a:ext cx="24289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torrentportal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mybittorren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seedpeer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thepiratebay.org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ca. 22 Millionen Us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speedtorrent.t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feld 29"/>
          <p:cNvSpPr/>
          <p:nvPr/>
        </p:nvSpPr>
        <p:spPr>
          <a:xfrm>
            <a:off x="1928880" y="20725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98989"/>
                </a:solidFill>
                <a:latin typeface="Calibri"/>
              </a:rPr>
              <a:t>Em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feld 30"/>
          <p:cNvSpPr/>
          <p:nvPr/>
        </p:nvSpPr>
        <p:spPr>
          <a:xfrm>
            <a:off x="4214880" y="20725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98989"/>
                </a:solidFill>
                <a:latin typeface="Calibri"/>
              </a:rPr>
              <a:t>Lime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feld 31"/>
          <p:cNvSpPr/>
          <p:nvPr/>
        </p:nvSpPr>
        <p:spPr>
          <a:xfrm>
            <a:off x="6715080" y="20725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98989"/>
                </a:solidFill>
                <a:latin typeface="Calibri"/>
              </a:rPr>
              <a:t>Bit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hteck 32"/>
          <p:cNvSpPr/>
          <p:nvPr/>
        </p:nvSpPr>
        <p:spPr>
          <a:xfrm>
            <a:off x="6269040" y="4214880"/>
            <a:ext cx="266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98989"/>
                </a:solidFill>
                <a:latin typeface="Calibri"/>
              </a:rPr>
              <a:t>Beispiele v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98989"/>
                </a:solidFill>
                <a:latin typeface="Calibri"/>
              </a:rPr>
              <a:t>Torrents-Suchmaschie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hteck 20"/>
          <p:cNvSpPr/>
          <p:nvPr/>
        </p:nvSpPr>
        <p:spPr>
          <a:xfrm>
            <a:off x="1936440" y="507204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ca. 35 Millionen Us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hteck 25"/>
          <p:cNvSpPr/>
          <p:nvPr/>
        </p:nvSpPr>
        <p:spPr>
          <a:xfrm>
            <a:off x="4143240" y="4857840"/>
            <a:ext cx="1785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f ca. einem Drittel der PCs weltweit ist Limewire installiert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ca. 36,4 Prozent Markt-durchdringung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Rectangle 7" descr=""/>
          <p:cNvPicPr/>
          <p:nvPr/>
        </p:nvPicPr>
        <p:blipFill>
          <a:blip r:embed="rId5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11" name="Textfeld 1"/>
          <p:cNvSpPr/>
          <p:nvPr/>
        </p:nvSpPr>
        <p:spPr>
          <a:xfrm>
            <a:off x="357120" y="5929200"/>
            <a:ext cx="3857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* The report is a collaboration of digital music consultancy BigChampagne,     utility software provider PC Pitstop, and Digital Music N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CDB-9EDD-436D-A36A-B24E05408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5" descr="intro"/>
          <p:cNvPicPr/>
          <p:nvPr/>
        </p:nvPicPr>
        <p:blipFill>
          <a:blip r:embed="rId1"/>
          <a:stretch/>
        </p:blipFill>
        <p:spPr>
          <a:xfrm>
            <a:off x="2143080" y="1714680"/>
            <a:ext cx="5573880" cy="4109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Dokumente und Einstellungen\Admin\Desktop\Präsentation\Piracy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16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17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065-ACBF-47C7-8BD8-50960F647E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6" descr="C:\Dokumente und Einstellungen\Admin\Desktop\bitTorrent1Neu.gif"/>
          <p:cNvPicPr/>
          <p:nvPr/>
        </p:nvPicPr>
        <p:blipFill>
          <a:blip r:embed="rId1"/>
          <a:stretch/>
        </p:blipFill>
        <p:spPr>
          <a:xfrm>
            <a:off x="3286080" y="18572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" descr="C:\Dokumente und Einstellungen\Admin\Desktop\Präsentation\Piracy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21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22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FA7-695D-4033-AD4B-ADC3F2F17B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Rectangle 7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grpSp>
        <p:nvGrpSpPr>
          <p:cNvPr id="825" name="Gruppieren 7"/>
          <p:cNvGrpSpPr/>
          <p:nvPr/>
        </p:nvGrpSpPr>
        <p:grpSpPr>
          <a:xfrm>
            <a:off x="1643040" y="1714680"/>
            <a:ext cx="6715080" cy="4570200"/>
            <a:chOff x="1643040" y="1714680"/>
            <a:chExt cx="6715080" cy="4570200"/>
          </a:xfrm>
        </p:grpSpPr>
        <p:sp>
          <p:nvSpPr>
            <p:cNvPr id="826" name="Ellipse 8"/>
            <p:cNvSpPr/>
            <p:nvPr/>
          </p:nvSpPr>
          <p:spPr>
            <a:xfrm>
              <a:off x="4357440" y="1714680"/>
              <a:ext cx="1857240" cy="1643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uppieren 37"/>
            <p:cNvGrpSpPr/>
            <p:nvPr/>
          </p:nvGrpSpPr>
          <p:grpSpPr>
            <a:xfrm>
              <a:off x="1643040" y="2071800"/>
              <a:ext cx="6715080" cy="4213080"/>
              <a:chOff x="1643040" y="2071800"/>
              <a:chExt cx="6715080" cy="4213080"/>
            </a:xfrm>
          </p:grpSpPr>
          <p:sp>
            <p:nvSpPr>
              <p:cNvPr id="828" name="Ellipse 10"/>
              <p:cNvSpPr/>
              <p:nvPr/>
            </p:nvSpPr>
            <p:spPr>
              <a:xfrm>
                <a:off x="2214360" y="2071800"/>
                <a:ext cx="1285920" cy="1143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Ellipse 16"/>
              <p:cNvSpPr/>
              <p:nvPr/>
            </p:nvSpPr>
            <p:spPr>
              <a:xfrm>
                <a:off x="2928960" y="3429000"/>
                <a:ext cx="1285920" cy="1143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Ellipse 17"/>
              <p:cNvSpPr/>
              <p:nvPr/>
            </p:nvSpPr>
            <p:spPr>
              <a:xfrm>
                <a:off x="7072200" y="2357280"/>
                <a:ext cx="1285920" cy="1143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Ellipse 18"/>
              <p:cNvSpPr/>
              <p:nvPr/>
            </p:nvSpPr>
            <p:spPr>
              <a:xfrm>
                <a:off x="4714920" y="5072040"/>
                <a:ext cx="1285920" cy="1143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Ellipse 19"/>
              <p:cNvSpPr/>
              <p:nvPr/>
            </p:nvSpPr>
            <p:spPr>
              <a:xfrm>
                <a:off x="4643280" y="3643200"/>
                <a:ext cx="1285920" cy="1143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Gerade Verbindung 20"/>
              <p:cNvSpPr/>
              <p:nvPr/>
            </p:nvSpPr>
            <p:spPr>
              <a:xfrm>
                <a:off x="3429000" y="2928960"/>
                <a:ext cx="1357200" cy="10713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Gerade Verbindung 21"/>
              <p:cNvSpPr/>
              <p:nvPr/>
            </p:nvSpPr>
            <p:spPr>
              <a:xfrm flipV="1">
                <a:off x="2499480" y="3214440"/>
                <a:ext cx="214200" cy="178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Gerade Verbindung 22"/>
              <p:cNvSpPr/>
              <p:nvPr/>
            </p:nvSpPr>
            <p:spPr>
              <a:xfrm>
                <a:off x="4214880" y="4000680"/>
                <a:ext cx="1000080" cy="2854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Gerade Verbindung 23"/>
              <p:cNvSpPr/>
              <p:nvPr/>
            </p:nvSpPr>
            <p:spPr>
              <a:xfrm flipH="1">
                <a:off x="5286240" y="4788000"/>
                <a:ext cx="1440" cy="4284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Gerade Verbindung 24"/>
              <p:cNvSpPr/>
              <p:nvPr/>
            </p:nvSpPr>
            <p:spPr>
              <a:xfrm>
                <a:off x="5857920" y="2428920"/>
                <a:ext cx="1928880" cy="4284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Gerade Verbindung 25"/>
              <p:cNvSpPr/>
              <p:nvPr/>
            </p:nvSpPr>
            <p:spPr>
              <a:xfrm flipH="1">
                <a:off x="5286240" y="2571840"/>
                <a:ext cx="1440" cy="10713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feld 79"/>
              <p:cNvSpPr/>
              <p:nvPr/>
            </p:nvSpPr>
            <p:spPr>
              <a:xfrm>
                <a:off x="4643280" y="2074680"/>
                <a:ext cx="12142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ffff"/>
                    </a:solidFill>
                    <a:latin typeface="Calibri"/>
                  </a:rPr>
                  <a:t>Barrister Admin-Modu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feld 80"/>
              <p:cNvSpPr/>
              <p:nvPr/>
            </p:nvSpPr>
            <p:spPr>
              <a:xfrm>
                <a:off x="4643280" y="4071960"/>
                <a:ext cx="1214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ff"/>
                    </a:solidFill>
                    <a:latin typeface="Calibri"/>
                  </a:rPr>
                  <a:t>SQL-Datenban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feld 81"/>
              <p:cNvSpPr/>
              <p:nvPr/>
            </p:nvSpPr>
            <p:spPr>
              <a:xfrm>
                <a:off x="7072200" y="2715840"/>
                <a:ext cx="121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ff"/>
                    </a:solidFill>
                    <a:latin typeface="Calibri"/>
                  </a:rPr>
                  <a:t>AdressValidator-Mod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Gruppieren 40"/>
              <p:cNvGrpSpPr/>
              <p:nvPr/>
            </p:nvGrpSpPr>
            <p:grpSpPr>
              <a:xfrm>
                <a:off x="1643040" y="4643280"/>
                <a:ext cx="1857600" cy="1641600"/>
                <a:chOff x="1643040" y="4643280"/>
                <a:chExt cx="1857600" cy="1641600"/>
              </a:xfrm>
            </p:grpSpPr>
            <p:sp>
              <p:nvSpPr>
                <p:cNvPr id="843" name="Ellipse 33"/>
                <p:cNvSpPr/>
                <p:nvPr/>
              </p:nvSpPr>
              <p:spPr>
                <a:xfrm>
                  <a:off x="1643040" y="4643280"/>
                  <a:ext cx="1857600" cy="164160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feld 82"/>
                <p:cNvSpPr/>
                <p:nvPr/>
              </p:nvSpPr>
              <p:spPr>
                <a:xfrm>
                  <a:off x="1643040" y="5319360"/>
                  <a:ext cx="1754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ffffff"/>
                      </a:solidFill>
                      <a:latin typeface="Calibri"/>
                    </a:rPr>
                    <a:t>P2P-Netzwe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Textfeld 83"/>
              <p:cNvSpPr/>
              <p:nvPr/>
            </p:nvSpPr>
            <p:spPr>
              <a:xfrm>
                <a:off x="2965320" y="3716280"/>
                <a:ext cx="121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ff"/>
                    </a:solidFill>
                    <a:latin typeface="Calibri"/>
                  </a:rPr>
                  <a:t>FileWatch Admin-Mod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feld 84"/>
              <p:cNvSpPr/>
              <p:nvPr/>
            </p:nvSpPr>
            <p:spPr>
              <a:xfrm>
                <a:off x="2214360" y="2430360"/>
                <a:ext cx="1214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ff"/>
                    </a:solidFill>
                    <a:latin typeface="Calibri"/>
                  </a:rPr>
                  <a:t>FileWatch-Mod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feld 85"/>
              <p:cNvSpPr/>
              <p:nvPr/>
            </p:nvSpPr>
            <p:spPr>
              <a:xfrm>
                <a:off x="4714920" y="5500800"/>
                <a:ext cx="1214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ffff"/>
                    </a:solidFill>
                    <a:latin typeface="Calibri"/>
                  </a:rPr>
                  <a:t>Statistik-Mod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48" name="Picture 2" descr="C:\Dokumente und Einstellungen\Admin\Desktop\software_main_neu.jpg"/>
          <p:cNvPicPr/>
          <p:nvPr/>
        </p:nvPicPr>
        <p:blipFill>
          <a:blip r:embed="rId2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sp>
        <p:nvSpPr>
          <p:cNvPr id="849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A3F-EDE7-4638-9332-DD90E9B61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C:\Dokumente und Einstellungen\Admin\Desktop\software_main_neu.jpg"/>
          <p:cNvPicPr/>
          <p:nvPr/>
        </p:nvPicPr>
        <p:blipFill>
          <a:blip r:embed="rId1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pic>
        <p:nvPicPr>
          <p:cNvPr id="852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53" name="Textfeld 18"/>
          <p:cNvSpPr/>
          <p:nvPr/>
        </p:nvSpPr>
        <p:spPr>
          <a:xfrm>
            <a:off x="2214720" y="2286000"/>
            <a:ext cx="6572160" cy="283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urch den Einsatz der Software ist es möglich, unzählige von protokolierten IP-Adresse juristisch verwertbar zu mac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fassungen in allen großen Tauschbörsen anhand der wichtigsten Protokol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nutella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Donkey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demlia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itTorrent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sere Software ermöglicht die tägliche Erfassung und Protokollierung hundertausender illegaler Downloads weltw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D7BA-1808-435C-BDB3-3CD6077DCA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feld 18"/>
          <p:cNvSpPr/>
          <p:nvPr/>
        </p:nvSpPr>
        <p:spPr>
          <a:xfrm>
            <a:off x="2214720" y="2286000"/>
            <a:ext cx="657216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ändige Weiterentwicklung  unserer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geprüften und testierten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oftware durch unser Softwareentwickler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passung der Software auf länderspezifische Gegeben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arbeitung der Prozesse sind voll automatisi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onsolidierung des gesamten Daten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tomatisiertes Erstellen und Versenden von Abma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stellung von “Quick Freeze“-Schreiben an ISP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C:\Dokumente und Einstellungen\Admin\Desktop\software_main_neu.jpg"/>
          <p:cNvPicPr/>
          <p:nvPr/>
        </p:nvPicPr>
        <p:blipFill>
          <a:blip r:embed="rId1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pic>
        <p:nvPicPr>
          <p:cNvPr id="858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59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B043-8B1E-4236-A470-31C3BE136D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feld 18"/>
          <p:cNvSpPr/>
          <p:nvPr/>
        </p:nvSpPr>
        <p:spPr>
          <a:xfrm>
            <a:off x="2214720" y="1785960"/>
            <a:ext cx="6643440" cy="4241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Protokollierte Daten unserer Software aus den P2P-Netzwerk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IP-Adresse des Datei-Anbi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Zeitpunkt des Zugriffs (Abgleich mit Atomzeituh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Name der heruntergeladenen Dat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Benutzername des Anbieters innerhalb der File-Sharing-Tauschbör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Port des Zugriffs (IT-Technische Angab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Dateigröß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Hash-Wert des Benutzernam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Genutztes Protokoll (eMule, BitTorrent, Kademlia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und Gnutell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Landeskennzeichen des Landes in dem der Rechner des Anbieters ste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Datenbankschlüssel und eine Client-Software 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Geo-Punk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Parallele “ Whois-Abfrage“ um festzustellen, welchem Dienstanbieter  (ISP) die ermittelte IP- Adresse zugeordnet 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C:\Dokumente und Einstellungen\Admin\Desktop\software_main_neu.jpg"/>
          <p:cNvPicPr/>
          <p:nvPr/>
        </p:nvPicPr>
        <p:blipFill>
          <a:blip r:embed="rId1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pic>
        <p:nvPicPr>
          <p:cNvPr id="863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64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Diagramm 21" descr=""/>
          <p:cNvPicPr/>
          <p:nvPr/>
        </p:nvPicPr>
        <p:blipFill>
          <a:blip r:embed="rId1"/>
          <a:stretch/>
        </p:blipFill>
        <p:spPr>
          <a:xfrm>
            <a:off x="2097000" y="1779480"/>
            <a:ext cx="6461280" cy="44452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33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4BB-B39C-4C21-9AE6-A1902C378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35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94AF-C9A4-4E9E-BE5B-8AF40B25E7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feld 18"/>
          <p:cNvSpPr/>
          <p:nvPr/>
        </p:nvSpPr>
        <p:spPr>
          <a:xfrm>
            <a:off x="2214720" y="2286000"/>
            <a:ext cx="657216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stellung von Statisti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onatsberi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ahresberi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Länder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o-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itel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" descr="C:\Dokumente und Einstellungen\Admin\Desktop\software_main_neu.jpg"/>
          <p:cNvPicPr/>
          <p:nvPr/>
        </p:nvPicPr>
        <p:blipFill>
          <a:blip r:embed="rId1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pic>
        <p:nvPicPr>
          <p:cNvPr id="868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69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5DFB-5120-4634-BBDD-E7E3670C4C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Diagramm 11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7143480" cy="4357800"/>
          </a:xfrm>
          <a:prstGeom prst="rect">
            <a:avLst/>
          </a:prstGeom>
          <a:ln w="0">
            <a:noFill/>
          </a:ln>
        </p:spPr>
      </p:pic>
      <p:sp>
        <p:nvSpPr>
          <p:cNvPr id="872" name="Textfeld 15"/>
          <p:cNvSpPr/>
          <p:nvPr/>
        </p:nvSpPr>
        <p:spPr>
          <a:xfrm>
            <a:off x="2357280" y="192888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Beispiel Statis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2" descr="C:\Dokumente und Einstellungen\Admin\Desktop\software_main_neu.jpg"/>
          <p:cNvPicPr/>
          <p:nvPr/>
        </p:nvPicPr>
        <p:blipFill>
          <a:blip r:embed="rId3"/>
          <a:stretch/>
        </p:blipFill>
        <p:spPr>
          <a:xfrm>
            <a:off x="566640" y="2279520"/>
            <a:ext cx="865440" cy="2938680"/>
          </a:xfrm>
          <a:prstGeom prst="rect">
            <a:avLst/>
          </a:prstGeom>
          <a:ln w="0">
            <a:noFill/>
          </a:ln>
        </p:spPr>
      </p:pic>
      <p:sp>
        <p:nvSpPr>
          <p:cNvPr id="875" name="Textfeld 1"/>
          <p:cNvSpPr/>
          <p:nvPr/>
        </p:nvSpPr>
        <p:spPr>
          <a:xfrm>
            <a:off x="1357200" y="6000840"/>
            <a:ext cx="17146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Calibri"/>
              </a:rPr>
              <a:t>Quelle: DRS GmbH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926-DCD3-460E-9AC2-5ADCF6B2B5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Diagramm 17" descr=""/>
          <p:cNvPicPr/>
          <p:nvPr/>
        </p:nvPicPr>
        <p:blipFill>
          <a:blip r:embed="rId1"/>
          <a:stretch/>
        </p:blipFill>
        <p:spPr>
          <a:xfrm>
            <a:off x="2200320" y="1494000"/>
            <a:ext cx="6162480" cy="40780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2" descr="C:\Dokumente und Einstellungen\Admin\Desktop\prozess.pn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80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81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53D-6F26-4FBD-8050-0A3EDC26D3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Diagramm 14" descr=""/>
          <p:cNvPicPr/>
          <p:nvPr/>
        </p:nvPicPr>
        <p:blipFill>
          <a:blip r:embed="rId1"/>
          <a:stretch/>
        </p:blipFill>
        <p:spPr>
          <a:xfrm>
            <a:off x="2073240" y="2951280"/>
            <a:ext cx="6229440" cy="7855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2" descr="C:\Dokumente und Einstellungen\Admin\Desktop\prozess.pn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85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86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C00-DDF5-4A02-A66C-859BA76750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Diagramm 14" descr=""/>
          <p:cNvPicPr/>
          <p:nvPr/>
        </p:nvPicPr>
        <p:blipFill>
          <a:blip r:embed="rId1"/>
          <a:stretch/>
        </p:blipFill>
        <p:spPr>
          <a:xfrm>
            <a:off x="1951200" y="2610000"/>
            <a:ext cx="6686280" cy="205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" descr="C:\Dokumente und Einstellungen\Admin\Desktop\prozess.pn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90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91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7FD0-FFF8-41C3-A085-665A79314A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Diagramm 14" descr=""/>
          <p:cNvPicPr/>
          <p:nvPr/>
        </p:nvPicPr>
        <p:blipFill>
          <a:blip r:embed="rId1"/>
          <a:stretch/>
        </p:blipFill>
        <p:spPr>
          <a:xfrm>
            <a:off x="2120760" y="1895400"/>
            <a:ext cx="6328080" cy="42004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C:\Dokumente und Einstellungen\Admin\Desktop\prozess.pn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pic>
        <p:nvPicPr>
          <p:cNvPr id="895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896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A5E-11AD-4980-8BEB-0E2A619E1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2" descr="C:\Dokumente und Einstellungen\Admin\Desktop\geld202.jpg"/>
          <p:cNvPicPr/>
          <p:nvPr/>
        </p:nvPicPr>
        <p:blipFill>
          <a:blip r:embed="rId1"/>
          <a:stretch/>
        </p:blipFill>
        <p:spPr>
          <a:xfrm>
            <a:off x="571680" y="2357280"/>
            <a:ext cx="857160" cy="2857680"/>
          </a:xfrm>
          <a:prstGeom prst="rect">
            <a:avLst/>
          </a:prstGeom>
          <a:ln w="0">
            <a:noFill/>
          </a:ln>
        </p:spPr>
      </p:pic>
      <p:pic>
        <p:nvPicPr>
          <p:cNvPr id="899" name="Bild 5" descr="j0315566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85960" y="2286000"/>
            <a:ext cx="6858000" cy="3745080"/>
          </a:xfrm>
          <a:prstGeom prst="rect">
            <a:avLst/>
          </a:prstGeom>
          <a:ln w="0">
            <a:noFill/>
          </a:ln>
        </p:spPr>
      </p:pic>
      <p:sp>
        <p:nvSpPr>
          <p:cNvPr id="900" name="Textfeld 23"/>
          <p:cNvSpPr/>
          <p:nvPr/>
        </p:nvSpPr>
        <p:spPr>
          <a:xfrm>
            <a:off x="4000680" y="2607480"/>
            <a:ext cx="521460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chadensersatz gemäß Unterlassungs- und Verpflichtungserklärung:     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€ 45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nteil Rechteinhaber 20 %                                  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pro erfasstem und abgemahn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Rechtsverletzer, der tatsächlich bezahlt: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€   9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ote der Sofortzahler liegt zur Zeit bei ca. 25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Technikkosten, Administrationskosten,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onstige infrastrukturelle Kos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nwaltshonorar für Gerichtsanträg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bmahnschreiben, Massenkorresponden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mit Rechtsverletzern, Zahlungsklage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V-Anträge in begrenztem Umfang: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€ 36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feld 24"/>
          <p:cNvSpPr/>
          <p:nvPr/>
        </p:nvSpPr>
        <p:spPr>
          <a:xfrm>
            <a:off x="3071880" y="178632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Calibri"/>
              </a:rPr>
              <a:t>                                </a:t>
            </a:r>
            <a:r>
              <a:rPr b="0" lang="de-DE" sz="1400" spc="-1" strike="noStrike">
                <a:solidFill>
                  <a:srgbClr val="898989"/>
                </a:solidFill>
                <a:latin typeface="Calibri"/>
              </a:rPr>
              <a:t>Beispiel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Gerade Verbindung 26"/>
          <p:cNvSpPr/>
          <p:nvPr/>
        </p:nvSpPr>
        <p:spPr>
          <a:xfrm flipH="1" flipV="1">
            <a:off x="2000160" y="7571880"/>
            <a:ext cx="457200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904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0DD-2795-4451-A3DB-B8EE246C2D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C:\Dokumente und Einstellungen\Admin\Desktop\geld202.jpg"/>
          <p:cNvPicPr/>
          <p:nvPr/>
        </p:nvPicPr>
        <p:blipFill>
          <a:blip r:embed="rId1"/>
          <a:stretch/>
        </p:blipFill>
        <p:spPr>
          <a:xfrm>
            <a:off x="571680" y="2357280"/>
            <a:ext cx="857160" cy="2857680"/>
          </a:xfrm>
          <a:prstGeom prst="rect">
            <a:avLst/>
          </a:prstGeom>
          <a:ln w="0">
            <a:noFill/>
          </a:ln>
        </p:spPr>
      </p:pic>
      <p:pic>
        <p:nvPicPr>
          <p:cNvPr id="907" name="Bild 5" descr="j0315566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14680" y="2255760"/>
            <a:ext cx="7215120" cy="3745080"/>
          </a:xfrm>
          <a:prstGeom prst="rect">
            <a:avLst/>
          </a:prstGeom>
          <a:ln w="0">
            <a:noFill/>
          </a:ln>
        </p:spPr>
      </p:pic>
      <p:sp>
        <p:nvSpPr>
          <p:cNvPr id="908" name="Gerade Verbindung 26"/>
          <p:cNvSpPr/>
          <p:nvPr/>
        </p:nvSpPr>
        <p:spPr>
          <a:xfrm flipH="1" flipV="1">
            <a:off x="2000160" y="7571880"/>
            <a:ext cx="457200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910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feld 9"/>
          <p:cNvSpPr/>
          <p:nvPr/>
        </p:nvSpPr>
        <p:spPr>
          <a:xfrm>
            <a:off x="3714840" y="2347920"/>
            <a:ext cx="521496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ca. € 0,60 (netto) pro legal verkauftem Download gegenü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0,00 pro erfassten illegalen Download bei Rechtsverletzern, die zah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r Ertrag bei erfassten und bezahlten illegalen Downloads ist d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50 fach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s bedeutet: Wenn 1.250 Rechtsverletzer erfasst werden, die zahlen, müssten zur Erwirtschaftung des entsprechenden Ertrages 150.000 Downloads legal verkauft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einer Zahlquote von 25 % müssten also pro Monat 5.000 illegale Downloads eines bestimmten Produktes erfasst werden. Dies ist pro Woche eine Erfassungszahl von 1.000, was bei gut laufenden Themen realistisch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Zahlquote wird durch Vergleichsschlüsse und Ratenzahler regelmäßig bei einem durchschnittlichen Überwachungs- und Bearbeitungszeitraum von 6 Monaten gesteig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feld 10"/>
          <p:cNvSpPr/>
          <p:nvPr/>
        </p:nvSpPr>
        <p:spPr>
          <a:xfrm>
            <a:off x="3071880" y="178632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Calibri"/>
              </a:rPr>
              <a:t>Vergleich Ertrag legale ./. illegale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1" descr="C:\Dokumente und Einstellungen\Admin\Desktop\Leona_Lewis_-_Spirit_-_Back.jpg"/>
          <p:cNvPicPr/>
          <p:nvPr/>
        </p:nvPicPr>
        <p:blipFill>
          <a:blip r:embed="rId1"/>
          <a:stretch/>
        </p:blipFill>
        <p:spPr>
          <a:xfrm>
            <a:off x="1879560" y="2143080"/>
            <a:ext cx="3795840" cy="296244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915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B34-4AEE-491F-BC04-7E1EFC1C86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82" descr="C:\Dokumente und Einstellungen\Admin\Desktop\Präsentation\grafik-auge-auflage_~V3047005.jpg"/>
          <p:cNvPicPr/>
          <p:nvPr/>
        </p:nvPicPr>
        <p:blipFill>
          <a:blip r:embed="rId3"/>
          <a:stretch/>
        </p:blipFill>
        <p:spPr>
          <a:xfrm>
            <a:off x="4145040" y="4194000"/>
            <a:ext cx="1133280" cy="981360"/>
          </a:xfrm>
          <a:prstGeom prst="rect">
            <a:avLst/>
          </a:prstGeom>
          <a:ln w="0">
            <a:noFill/>
          </a:ln>
        </p:spPr>
      </p:pic>
      <p:sp>
        <p:nvSpPr>
          <p:cNvPr id="917" name="Textfeld 12"/>
          <p:cNvSpPr/>
          <p:nvPr/>
        </p:nvSpPr>
        <p:spPr>
          <a:xfrm>
            <a:off x="4214880" y="4402080"/>
            <a:ext cx="785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ffffff"/>
                </a:solidFill>
                <a:latin typeface="Calibri"/>
              </a:rPr>
              <a:t>P2P-Montieru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" descr="C:\Dokumente und Einstellungen\Admin\Desktop\Leona_Lewis_-_Spirit_-_CD.jpg"/>
          <p:cNvPicPr/>
          <p:nvPr/>
        </p:nvPicPr>
        <p:blipFill>
          <a:blip r:embed="rId4"/>
          <a:stretch/>
        </p:blipFill>
        <p:spPr>
          <a:xfrm>
            <a:off x="5907240" y="221472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C:\Dokumente und Einstellungen\Admin\Desktop\Leona_Lewis_-_Spirit_-_CD.jpg"/>
          <p:cNvPicPr/>
          <p:nvPr/>
        </p:nvPicPr>
        <p:blipFill>
          <a:blip r:embed="rId5"/>
          <a:stretch/>
        </p:blipFill>
        <p:spPr>
          <a:xfrm>
            <a:off x="5929200" y="221472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82" descr="C:\Dokumente und Einstellungen\Admin\Desktop\Präsentation\grafik-auge-auflage_~V3047005.jpg"/>
          <p:cNvPicPr/>
          <p:nvPr/>
        </p:nvPicPr>
        <p:blipFill>
          <a:blip r:embed="rId6"/>
          <a:stretch/>
        </p:blipFill>
        <p:spPr>
          <a:xfrm>
            <a:off x="6851520" y="4352760"/>
            <a:ext cx="1133640" cy="987480"/>
          </a:xfrm>
          <a:prstGeom prst="rect">
            <a:avLst/>
          </a:prstGeom>
          <a:ln w="0">
            <a:noFill/>
          </a:ln>
        </p:spPr>
      </p:pic>
      <p:sp>
        <p:nvSpPr>
          <p:cNvPr id="921" name="Textfeld 22"/>
          <p:cNvSpPr/>
          <p:nvPr/>
        </p:nvSpPr>
        <p:spPr>
          <a:xfrm rot="21332400">
            <a:off x="6943680" y="4571280"/>
            <a:ext cx="785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de-DE" sz="500" spc="-1" strike="noStrike">
                <a:solidFill>
                  <a:srgbClr val="ffffff"/>
                </a:solidFill>
                <a:latin typeface="Calibri"/>
              </a:rPr>
              <a:t>P2P-Montieru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Rectangle 7" descr=""/>
          <p:cNvPicPr/>
          <p:nvPr/>
        </p:nvPicPr>
        <p:blipFill>
          <a:blip r:embed="rId7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923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746-0E51-47EC-905F-4BC20665AD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5" descr="eMule_icon"/>
          <p:cNvPicPr/>
          <p:nvPr/>
        </p:nvPicPr>
        <p:blipFill>
          <a:blip r:embed="rId1"/>
          <a:stretch/>
        </p:blipFill>
        <p:spPr>
          <a:xfrm>
            <a:off x="4214880" y="2214720"/>
            <a:ext cx="884160" cy="1143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" descr="C:\Dokumente und Einstellungen\Admin\Desktop\SJCARW21N0CAGRX6SVCA5U95Y5CAGO5HINCAZBSSUBCAXS4TNDCA28WRY5CAPYSN6FCAIN9PQQCA9NGJ6NCADBHTM2CAUE5V4CCAO0K1IPCAA35YQ9CAW6N33ACA5LFW08CAG9MFG1CATC0DOL.jpg"/>
          <p:cNvPicPr/>
          <p:nvPr/>
        </p:nvPicPr>
        <p:blipFill>
          <a:blip r:embed="rId2"/>
          <a:stretch/>
        </p:blipFill>
        <p:spPr>
          <a:xfrm>
            <a:off x="4214880" y="400068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927" name="Pfeil nach unten 19"/>
          <p:cNvSpPr/>
          <p:nvPr/>
        </p:nvSpPr>
        <p:spPr>
          <a:xfrm>
            <a:off x="4500720" y="3500280"/>
            <a:ext cx="215640" cy="3574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2" descr="C:\Dokumente und Einstellungen\Admin\Desktop\Präsentation\untitled.bmp"/>
          <p:cNvPicPr/>
          <p:nvPr/>
        </p:nvPicPr>
        <p:blipFill>
          <a:blip r:embed="rId3"/>
          <a:stretch/>
        </p:blipFill>
        <p:spPr>
          <a:xfrm>
            <a:off x="642960" y="2357280"/>
            <a:ext cx="857160" cy="2857680"/>
          </a:xfrm>
          <a:prstGeom prst="rect">
            <a:avLst/>
          </a:prstGeom>
          <a:ln w="0">
            <a:noFill/>
          </a:ln>
        </p:spPr>
      </p:pic>
      <p:pic>
        <p:nvPicPr>
          <p:cNvPr id="929" name="Rectangle 7" descr=""/>
          <p:cNvPicPr/>
          <p:nvPr/>
        </p:nvPicPr>
        <p:blipFill>
          <a:blip r:embed="rId4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930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-4.1152E-006 L 1.38889E-006 0.27273 E">
                                      <p:cBhvr>
                                        <p:cTn id="9" dur="3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Diagramm 18" descr=""/>
          <p:cNvPicPr/>
          <p:nvPr/>
        </p:nvPicPr>
        <p:blipFill>
          <a:blip r:embed="rId1"/>
          <a:stretch/>
        </p:blipFill>
        <p:spPr>
          <a:xfrm>
            <a:off x="2163600" y="1852560"/>
            <a:ext cx="6675480" cy="4383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38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3C9-6A8C-4AE8-BD5B-60D0A0183B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40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feld 10"/>
          <p:cNvSpPr/>
          <p:nvPr/>
        </p:nvSpPr>
        <p:spPr>
          <a:xfrm>
            <a:off x="2214720" y="2286000"/>
            <a:ext cx="657216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giRights Solution Gm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lisabethenstraße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-64283 Darmst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l.: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+49 6151-49214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ax: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+49 6151-49246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ail: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fo@drs-softwar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1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933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20B9-E2D9-4945-AB13-275F3A55C2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935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Diagramm 18" descr=""/>
          <p:cNvPicPr/>
          <p:nvPr/>
        </p:nvPicPr>
        <p:blipFill>
          <a:blip r:embed="rId1"/>
          <a:stretch/>
        </p:blipFill>
        <p:spPr>
          <a:xfrm>
            <a:off x="2097000" y="1779480"/>
            <a:ext cx="6742080" cy="4445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43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6D9-1DF9-44C2-A3CA-9BDDE020B4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45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Diagramm 18" descr=""/>
          <p:cNvPicPr/>
          <p:nvPr/>
        </p:nvPicPr>
        <p:blipFill>
          <a:blip r:embed="rId1"/>
          <a:stretch/>
        </p:blipFill>
        <p:spPr>
          <a:xfrm>
            <a:off x="2097000" y="1835280"/>
            <a:ext cx="6742080" cy="2425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2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48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EA9-60CD-41E5-ABE8-5C885184C8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Rectangle 7" descr=""/>
          <p:cNvPicPr/>
          <p:nvPr/>
        </p:nvPicPr>
        <p:blipFill>
          <a:blip r:embed="rId3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50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feld 10"/>
          <p:cNvSpPr/>
          <p:nvPr/>
        </p:nvSpPr>
        <p:spPr>
          <a:xfrm>
            <a:off x="2071800" y="2214720"/>
            <a:ext cx="6858000" cy="311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giRights Solution GmbH wurde im Jahr 2007 zum Schutz von Urheberrechtsverletzungen in P2P-Netzwerken gegründ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Gesellschaft hat Ihren Sitz in Darmstadt /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ser Team umfasst 11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giRights Solution GmbH ist Dienstleister für die Musik-, Film-, Computerspiele- und Software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usammenarbeit mit renommierten Rechtsanwaltsbüros in den jeweiligen Ländern, beispielsweise in Deutschland mit dem Büro Kornmeier &amp; Partner (Frankfurt am Main) und in England mit dem Büro Davenport Lyons 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unden aus Deutschland und Großbritann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C:\Dokumente und Einstellungen\Admin\Desktop\Präsentation\CWCAQ4B7OFCAP91AHVCAA7IEKKCA6P9O5WCAFQPHOTCAA95B7LCAPD1IL2CAPFAPL0CAH370ECCAJC1S2UCAN8F04MCAE035BZCACF1LQMCAA8EG5NCAGFCLRICABN2LX4CAHO3T2TCAPXCDZ5.jpg"/>
          <p:cNvPicPr/>
          <p:nvPr/>
        </p:nvPicPr>
        <p:blipFill>
          <a:blip r:embed="rId1"/>
          <a:stretch/>
        </p:blipFill>
        <p:spPr>
          <a:xfrm>
            <a:off x="57168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53" name="Foliennummernplatzhalter 12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7C70-1B11-429F-ABE3-6C29F5C922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sp>
        <p:nvSpPr>
          <p:cNvPr id="755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23A-469C-48E2-A6DD-0D9ECB7A8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Diagramm 11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7143480" cy="4357800"/>
          </a:xfrm>
          <a:prstGeom prst="rect">
            <a:avLst/>
          </a:prstGeom>
          <a:ln w="0">
            <a:noFill/>
          </a:ln>
        </p:spPr>
      </p:pic>
      <p:sp>
        <p:nvSpPr>
          <p:cNvPr id="758" name="Textfeld 15"/>
          <p:cNvSpPr/>
          <p:nvPr/>
        </p:nvSpPr>
        <p:spPr>
          <a:xfrm>
            <a:off x="2643120" y="2001600"/>
            <a:ext cx="41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Filesharing - P2P-Protokollverteilung nach Vol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-Deutschlan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670120" cy="987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C:\Dokumente und Einstellungen\Admin\Desktop\statistik_ratgeber.gif"/>
          <p:cNvPicPr/>
          <p:nvPr/>
        </p:nvPicPr>
        <p:blipFill>
          <a:blip r:embed="rId3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61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823-86BD-4FFC-AFB5-8EA80BE451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Diagramm 11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7143480" cy="4357800"/>
          </a:xfrm>
          <a:prstGeom prst="rect">
            <a:avLst/>
          </a:prstGeom>
          <a:ln w="0">
            <a:noFill/>
          </a:ln>
        </p:spPr>
      </p:pic>
      <p:sp>
        <p:nvSpPr>
          <p:cNvPr id="764" name="Textfeld 15"/>
          <p:cNvSpPr/>
          <p:nvPr/>
        </p:nvSpPr>
        <p:spPr>
          <a:xfrm>
            <a:off x="2357280" y="1930320"/>
            <a:ext cx="46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Verkehrsvolumen nach Art des Inhalts in Deutschlan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-BitTorren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719440" cy="987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C:\Dokumente und Einstellungen\Admin\Desktop\statistik_ratgeber.gif"/>
          <p:cNvPicPr/>
          <p:nvPr/>
        </p:nvPicPr>
        <p:blipFill>
          <a:blip r:embed="rId3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67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8"/>
          <p:cNvSpPr/>
          <p:nvPr/>
        </p:nvSpPr>
        <p:spPr>
          <a:xfrm>
            <a:off x="835812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F06-B6AB-46A0-B717-4779F21D8D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Diagramm 11" descr=""/>
          <p:cNvPicPr/>
          <p:nvPr/>
        </p:nvPicPr>
        <p:blipFill>
          <a:blip r:embed="rId1"/>
          <a:stretch/>
        </p:blipFill>
        <p:spPr>
          <a:xfrm>
            <a:off x="1571760" y="2357280"/>
            <a:ext cx="7143480" cy="4071960"/>
          </a:xfrm>
          <a:prstGeom prst="rect">
            <a:avLst/>
          </a:prstGeom>
          <a:ln w="0">
            <a:noFill/>
          </a:ln>
        </p:spPr>
      </p:pic>
      <p:sp>
        <p:nvSpPr>
          <p:cNvPr id="770" name="Textfeld 15"/>
          <p:cNvSpPr/>
          <p:nvPr/>
        </p:nvSpPr>
        <p:spPr>
          <a:xfrm>
            <a:off x="2357280" y="1930320"/>
            <a:ext cx="46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Verkehrsvolumen nach Art des Inhalts in Deutsch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-eMul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Rectangle 7" descr=""/>
          <p:cNvPicPr/>
          <p:nvPr/>
        </p:nvPicPr>
        <p:blipFill>
          <a:blip r:embed="rId2"/>
          <a:stretch/>
        </p:blipFill>
        <p:spPr>
          <a:xfrm>
            <a:off x="212760" y="219240"/>
            <a:ext cx="2719440" cy="9871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C:\Dokumente und Einstellungen\Admin\Desktop\statistik_ratgeber.gif"/>
          <p:cNvPicPr/>
          <p:nvPr/>
        </p:nvPicPr>
        <p:blipFill>
          <a:blip r:embed="rId3"/>
          <a:stretch/>
        </p:blipFill>
        <p:spPr>
          <a:xfrm>
            <a:off x="642960" y="2286000"/>
            <a:ext cx="857160" cy="2928960"/>
          </a:xfrm>
          <a:prstGeom prst="rect">
            <a:avLst/>
          </a:prstGeom>
          <a:ln w="0">
            <a:noFill/>
          </a:ln>
        </p:spPr>
      </p:pic>
      <p:sp>
        <p:nvSpPr>
          <p:cNvPr id="773" name="Fußzeilenplatzhalter 7"/>
          <p:cNvSpPr/>
          <p:nvPr/>
        </p:nvSpPr>
        <p:spPr>
          <a:xfrm>
            <a:off x="1071720" y="63579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09 DigiRights Solution Gm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0Z</dcterms:created>
  <dc:creator>Admin</dc:creator>
  <dc:description/>
  <dc:language>en-US</dc:language>
  <cp:lastModifiedBy>Lennart</cp:lastModifiedBy>
  <dcterms:modified xsi:type="dcterms:W3CDTF">2009-10-10T17:41:35Z</dcterms:modified>
  <cp:revision>254</cp:revision>
  <dc:subject/>
  <dc:title>Folie 1</dc:title>
</cp:coreProperties>
</file>